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0E64-E4A8-473E-ABB2-7297E3B48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5624640" y="6458040"/>
            <a:ext cx="430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61C5-9A4A-4B93-A29D-D1EADF06A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546-43BB-42DD-91F1-653C1C2B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C6B-A341-44D4-8F2B-BF8B51EB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293-EBDF-4729-B1E5-6E02EFB4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2DA-09A7-45CC-A4DA-EB17C8BE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8520-97AE-45E3-9FA2-F7EFE876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8CAF-5F23-4549-822E-6E3A45F8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FC84-AF6F-48AC-8D2D-928C4015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5413-1E80-4DAD-813D-ADBF4A58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39A6-7B05-4BF7-80B1-7306DEB5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7770-F78D-434D-AFC6-7552CDA9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E696-C1EE-4904-B19E-AF212D16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5FA-874C-4F87-A4F3-A8DB5452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1FB0-FFDE-433D-96CC-0D6533DE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8361-615A-496B-8B6B-E9F64142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2925-0354-4503-BF12-C007F72B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51B0-E4BA-49B8-84CF-1A89172E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5368-8F44-4859-8131-5431ADFE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D6C17-7D3C-4E3A-8291-C1BB0918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5D4E-CF23-4F60-B3AE-7B0F754A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10EED-3DFC-4DC0-876A-5404D9E5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8E5A1-B832-42AD-87B1-218ED18A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1844F-7CFB-48D5-AC03-247C53AD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A97-B3CA-4272-BEB9-FAB72539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C4A5B-99DA-4008-8A71-3757B8FE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62E87-7BB7-433E-9F5B-1F1CF8A2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52656-7AC5-4B5A-83AF-013DAABD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9C578-0651-4E9B-8057-52A4C8C8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31ED6-92D4-45E2-9E76-EF5B99F0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1F889-1DA1-4C4D-95F7-62A2195D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3D186-1E4C-434D-B10A-9C65B8EA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9BCF9-EB6F-4133-AB1C-7504EAC3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AD51F-372B-4B03-9125-9B2CE280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DD770-383F-43D0-BCFE-9D9D7A1E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E29-5382-4941-BC08-F9406328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F860A-7342-4FEC-8CE7-E4BCD138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89B3A-21D0-454F-ADA5-C38EB501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FAFC4-6528-4AF7-861C-0EBC1C8A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C65B9-47FA-40EA-99DA-C0FB5315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D19FE-3DF4-44D4-8F96-810B9A05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68019-0BA5-42A6-8EA4-75719460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DACFA-FF21-44A5-9C2D-93BCD8C5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96BE3-3938-4363-933B-3C17C45C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5BA76-C00F-44F9-AD95-0F5D1A08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1ACF6-2898-4DE6-ADC3-D060AC15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D18-F038-4D5D-A93C-0624A96F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4BEE3-A495-431F-823A-39EDC4D0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4CF52-94DA-418C-9405-F5B7AAE6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7AE6F-A17A-41DC-92A7-680D247B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63ADB-C33C-414B-BD35-A78483FB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E67CE-424E-43DF-93DA-48B92C92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0EFC5-9F7A-485C-BEF7-92566C52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8A7FA-0D49-4191-BF83-798B67D1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B7760-B2CC-4717-9267-BD284B83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1EDD8-67E9-4292-9017-C26A2B70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9E6AA-EA91-416F-A24E-74D15DA9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BC4-DF2F-4325-A70B-AB180F24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07C05-9A49-4C50-A853-42E51BE5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DFF-833A-449C-8022-303CDC1E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37E-91BF-43B6-A27D-1328B5EC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0BE-C7BE-407D-9D22-E38B9954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1CB8-FC0A-49FE-B1CB-3C90BEF0D5D8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21A9-6DE8-4BF6-A578-952DCF5C306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1EF6-D4E2-4D81-A503-6A9821B547F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3EA7-BAA1-4E8F-90C3-426FFC0BEA8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A033-81B0-4155-BD8A-24CE956C264E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8E50-0FE4-4EA6-9C32-933DC9D4BDE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C59D-B701-4308-ACC4-564060B9C90E}" type="datetime"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6A87-87DC-46D8-9312-B9D57A4F8A2E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5E17-8219-439A-BB4D-48DAB45F0FB1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C10B-B991-4467-9F68-2ADCAD1B782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mailto:maija.placena@inbox.l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4" descr=""/>
          <p:cNvPicPr/>
          <p:nvPr/>
        </p:nvPicPr>
        <p:blipFill>
          <a:blip r:embed="rId1"/>
          <a:stretch/>
        </p:blipFill>
        <p:spPr>
          <a:xfrm>
            <a:off x="3243240" y="944640"/>
            <a:ext cx="5499000" cy="19810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734920" y="4581360"/>
            <a:ext cx="6227640" cy="165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Times New Roman"/>
              </a:rPr>
              <a:t>Maija Placēn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Times New Roman"/>
              </a:rPr>
              <a:t>SIA Rostokas Aroma, pārtikas eksperts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Times New Roman"/>
              </a:rPr>
              <a:t>vadošais audito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Trebuchet MS"/>
              </a:rPr>
              <a:t>T. Mob.2644321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87052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FCC2-3D68-408C-BAB6-04B47BC6FB1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2A1E-8284-416B-B3AE-EC2341E300E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542880" y="324000"/>
            <a:ext cx="7199280" cy="10602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1007640" y="1609200"/>
            <a:ext cx="64803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ustāciju iedalījums pēc forma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ptauja – prezentācija (produkta izstrade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formatīva –iepazīstina un veicina produkta noieta tirgu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 – KS paškontrole (kvalitates stabilitātes parbaude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 – UTN, standarta izpild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fesionalā degustācija, konkuss  –  speciālisti salīdzina analogos produktu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epirkuma komisijas degustācij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832A-C9AB-44CA-A6D0-CFA3285F2AAE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98F1-3861-4297-9392-33F89DC1B57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454880" cy="9507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971640" y="1341360"/>
            <a:ext cx="679608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likumā paredzē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araugu pieņemšana, glabāšana, sagatavošana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s mērķi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s dalībnieki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s noris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s vertēšanas kritēriji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ustācijas protokol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ultātu paziņo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D8A8-CC43-4285-88F7-EE6882A5567D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2FFD-F694-4DBA-B2F9-2BF1ABEAB82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573120" y="189000"/>
            <a:ext cx="7242120" cy="14270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1510920" y="1628640"/>
            <a:ext cx="59770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 produktu pieņemšana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 uz aizdomu pamat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bāšanas laikā – paškontro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Iepakojuma vai produkta kopums – veselums, vizuālais novertējum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ustē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Smarža, garša, konsistenc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ustācijas ak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Kvalitates apliecinājum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kta ak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79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8E3C-7B4D-47B1-B3FE-D251D11B0308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9C81-E93D-4403-8B1F-F4054E78CC9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122400" y="158760"/>
            <a:ext cx="8180280" cy="96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368000" y="1233360"/>
            <a:ext cx="63277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ālā novērtē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Atbilstības apliecinājumu izvērtēšana  </a:t>
            </a: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	</a:t>
            </a: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(pavaddokumenti un kvalitātes sertifikāti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Marķējuma informācijas izvērtēšana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	</a:t>
            </a: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(sastāvdaļas dilstošā secībā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ntitatīvā novērtē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vēršana, mērīšana </a:t>
            </a: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(verificēti instrumenti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zuālā novērtēšana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krāsa, forma, veselum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oleptiskā (sensorā) novertē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Garša, smarža, konsistenc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83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62D8-9850-4CDE-9DFE-D4045AFB31B3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933C-FD5F-41C9-B32F-B58EC0CB624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1"/>
          <a:stretch/>
        </p:blipFill>
        <p:spPr>
          <a:xfrm>
            <a:off x="792000" y="298440"/>
            <a:ext cx="6907320" cy="14270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1224000" y="1609200"/>
            <a:ext cx="6472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ates novirzes pielai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pārtikas preces izbrāķēšan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ugu izcelsmes produktie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ātri bojājošo produktu defektācij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rbības ar dzīvnieku izcelsmes produktie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kas preces noraidīšana un atgrie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s apmaiņas iespēj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049D-B625-4A16-9FC7-08800895BA85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C7FD-AEC1-4E31-9C47-21875630699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19240" y="255600"/>
            <a:ext cx="8407080" cy="1506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952640"/>
            <a:ext cx="8305920" cy="4068720"/>
          </a:xfrm>
          <a:prstGeom prst="rect">
            <a:avLst/>
          </a:prstGeom>
          <a:solidFill>
            <a:srgbClr val="d788a3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rebuchet MS"/>
              </a:rPr>
              <a:t>Maija Placēna</a:t>
            </a: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– pārtikas tehnologs, eksperts, vadošais audito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lv-LV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lv-LV" sz="2300" spc="-1" strike="noStrike">
                <a:solidFill>
                  <a:srgbClr val="6c6c6c"/>
                </a:solidFill>
                <a:latin typeface="Trebuchet MS"/>
              </a:rPr>
              <a:t>mob. 26443210</a:t>
            </a:r>
            <a:r>
              <a:rPr b="0" lang="lv-LV" sz="2300" spc="-1" strike="noStrike">
                <a:solidFill>
                  <a:srgbClr val="874396"/>
                </a:solidFill>
                <a:latin typeface="Trebuchet MS"/>
              </a:rPr>
              <a:t>;   </a:t>
            </a:r>
            <a:r>
              <a:rPr b="0" lang="lv-LV" sz="23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maija.placena@inbox.lv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ffff"/>
                </a:solidFill>
                <a:latin typeface="Garamond"/>
              </a:rPr>
              <a:t>Paldies par uzmanību!!!</a:t>
            </a:r>
            <a:endParaRPr b="0" lang="en-US" sz="40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91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A2CA-B676-4B17-8332-12ED3FCF15E3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CADB-0290-4609-A000-507624BC94F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1042920" y="281160"/>
            <a:ext cx="7815240" cy="961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47480" y="1170000"/>
            <a:ext cx="886284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Tirgus izpē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Vajadzības apzināšana un iepirkuma mērķa noteikšan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 u="sng">
                <a:solidFill>
                  <a:srgbClr val="ff0000"/>
                </a:solidFill>
                <a:uFillTx/>
                <a:latin typeface="Trebuchet MS"/>
              </a:rPr>
              <a:t>Pasūtītāja līmenī:</a:t>
            </a:r>
            <a:br>
              <a:rPr sz="1800"/>
            </a:br>
            <a:r>
              <a:rPr b="0" i="1" lang="lv-LV" sz="1800" spc="-1" strike="noStrike">
                <a:solidFill>
                  <a:srgbClr val="ff0000"/>
                </a:solidFill>
                <a:latin typeface="Trebuchet MS"/>
              </a:rPr>
              <a:t>apjoms </a:t>
            </a:r>
            <a:r>
              <a:rPr b="0" i="1" lang="lv-LV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lv-LV" sz="1800" spc="-1" strike="noStrike">
                <a:solidFill>
                  <a:srgbClr val="ff0000"/>
                </a:solidFill>
                <a:latin typeface="Trebuchet MS"/>
              </a:rPr>
              <a:t> kārtējais patēriņš + nākotnes prognoze + rezerve (risks)</a:t>
            </a:r>
            <a:br>
              <a:rPr sz="1800"/>
            </a:br>
            <a:r>
              <a:rPr b="0" i="1" lang="lv-LV" sz="1800" spc="-1" strike="noStrike">
                <a:solidFill>
                  <a:srgbClr val="ff0000"/>
                </a:solidFill>
                <a:latin typeface="Trebuchet MS"/>
              </a:rPr>
              <a:t>tirgus izpēte </a:t>
            </a:r>
            <a:r>
              <a:rPr b="0" i="1" lang="lv-LV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lv-LV" sz="1800" spc="-1" strike="noStrike">
                <a:solidFill>
                  <a:srgbClr val="ff0000"/>
                </a:solidFill>
                <a:latin typeface="Trebuchet MS"/>
              </a:rPr>
              <a:t> kvalitātes piedāvājums + cenas piedāvājum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Paredzamās līgumcenas noteikšana un salīdzināšana ar budžeta iespējām </a:t>
            </a:r>
            <a:br>
              <a:rPr sz="2800"/>
            </a:b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Iepirkuma komisijas izveidošana, nepieciešamo ekspertu piesaistīšan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Iepirkuma norises, veicamo uzdevumu un to izpildes termiņu noteikšana </a:t>
            </a:r>
            <a:r>
              <a:rPr b="0" i="1" lang="lv-LV" sz="2400" spc="-1" strike="noStrike">
                <a:solidFill>
                  <a:srgbClr val="000000"/>
                </a:solidFill>
                <a:latin typeface="Trebuchet MS"/>
              </a:rPr>
              <a:t>(laika grafika/iepirkuma plāna  sastādīšana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CF97-E6A2-4979-9D29-C88C0F5C0132}" type="slidenum">
              <a:rPr b="0" lang="lv-LV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0" y="219240"/>
            <a:ext cx="8028000" cy="1834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94920" y="5481720"/>
            <a:ext cx="8381880" cy="6127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Garamond"/>
              </a:rPr>
              <a:t>Vai publiskais iepirkums beidzas ar līguma noslēgšanas mirkli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2424-2742-426E-83A8-465BEC1AE511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7B26-495C-4D0B-99C5-00DBE4C68B5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>
            <a:off x="3024360" y="1773360"/>
            <a:ext cx="3600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2792520" y="798480"/>
            <a:ext cx="5833800" cy="1060560"/>
          </a:xfrm>
          <a:prstGeom prst="rect">
            <a:avLst/>
          </a:prstGeom>
          <a:ln w="0">
            <a:noFill/>
          </a:ln>
        </p:spPr>
      </p:pic>
      <p:sp>
        <p:nvSpPr>
          <p:cNvPr id="240" name="Date Placeholder 2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9DEC-9511-47C5-BB02-3C9806BA2F1B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5089-3E71-47E4-B3AA-4BBED3AD21E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719280" y="873000"/>
            <a:ext cx="1692000" cy="1692360"/>
          </a:xfrm>
          <a:prstGeom prst="rect">
            <a:avLst/>
          </a:prstGeom>
          <a:solidFill>
            <a:srgbClr val="fef0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Pieprasīju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Sagatavo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Garamond"/>
              </a:rPr>
              <a:t>PIL+PA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Garamond"/>
              </a:rPr>
              <a:t>Mkn Nr.1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5111640" y="4653000"/>
            <a:ext cx="2778120" cy="176364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Garamond"/>
              </a:rPr>
              <a:t>Iepirkuma līgu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Garamond"/>
              </a:rPr>
              <a:t>Izpi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Garamond"/>
              </a:rPr>
              <a:t>PAU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Garamond"/>
              </a:rPr>
              <a:t>Mkn Nr.1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295280" y="2349360"/>
            <a:ext cx="6336000" cy="24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Garamond"/>
              </a:rPr>
              <a:t>Iepirkuma procedūra </a:t>
            </a:r>
            <a:r>
              <a:rPr b="1" lang="lv-LV" sz="3200" spc="-1" strike="noStrike">
                <a:solidFill>
                  <a:srgbClr val="000000"/>
                </a:solidFill>
                <a:latin typeface="Garamond"/>
              </a:rPr>
              <a:t>P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de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de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de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de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438200" y="2895480"/>
            <a:ext cx="1838520" cy="1685880"/>
          </a:xfrm>
          <a:prstGeom prst="rect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Garamond"/>
              </a:rPr>
              <a:t>Iepirku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Garamond"/>
              </a:rPr>
              <a:t>izsludināš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Garamond"/>
              </a:rPr>
              <a:t>u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Garamond"/>
              </a:rPr>
              <a:t>Piedāvāju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lv-LV" sz="2000" spc="-1" strike="noStrike">
                <a:solidFill>
                  <a:srgbClr val="000000"/>
                </a:solidFill>
                <a:latin typeface="Garamond"/>
              </a:rPr>
              <a:t>gatav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689280" y="2895480"/>
            <a:ext cx="1422360" cy="1685880"/>
          </a:xfrm>
          <a:prstGeom prst="rect">
            <a:avLst/>
          </a:prstGeom>
          <a:solidFill>
            <a:srgbClr val="fbd3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Piedāvājum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saņem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un vērtē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5400720" y="2898720"/>
            <a:ext cx="2050920" cy="1682640"/>
          </a:xfrm>
          <a:prstGeom prst="rect">
            <a:avLst/>
          </a:prstGeom>
          <a:solidFill>
            <a:srgbClr val="eba7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Līgu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slēgšanas tiesīb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piešķir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līguma slēg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6" descr=""/>
          <p:cNvPicPr/>
          <p:nvPr/>
        </p:nvPicPr>
        <p:blipFill>
          <a:blip r:embed="rId1"/>
          <a:stretch/>
        </p:blipFill>
        <p:spPr>
          <a:xfrm>
            <a:off x="371520" y="6480"/>
            <a:ext cx="8102520" cy="927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1187280" y="764640"/>
            <a:ext cx="6445440" cy="55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gatavošanās Iepirkuma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pirkuma izsludināšan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pirkuma komisijas darb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pirkuma rezultā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guma slēgšan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īguma izpil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ātes kontrole piegādes laikā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aiņu vadība līguma izpildes laikā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pirkuma </a:t>
            </a:r>
            <a:r>
              <a:rPr b="1" lang="lv-LV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zpildes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ultātu apkopošana un analī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4FFF-CE27-4310-B653-2148C3207DC9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71E8-2685-4AEC-9617-333A0AD0D68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731880" y="79200"/>
            <a:ext cx="7594560" cy="1090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1294920" y="1088640"/>
            <a:ext cx="626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Konkursa rezultātu pierakstu analī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Līguma slēgšanas vēstu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Piegāžu līguma izpildes analī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Pasūtījuma pieņemšana un plānošana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Transportēšanas nosacījumi pa produktu grupām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Iepakojuma atbilstība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Preces kvalitāte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pmaiņas iespēja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Komunicēšana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Sūdzības un ierosinājum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Labie darb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6817-C1DD-4570-A673-7DB3732446A7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4C04-484E-47D1-954C-5BB59D282B0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762120" y="225360"/>
            <a:ext cx="6937200" cy="10130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718920" y="1088640"/>
            <a:ext cx="7597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zdruka par apēstajiem produktie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Produktu grupēšana pa piegādātājie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Produktu grupēšana pa produktu grupā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pējo likumdošanas normatīvo prasību apzinā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ktu prečzinības apraksta 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ktualizē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Tehniskā specifikācij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Kvalitātes specifikācij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stāv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kāli – ķīmiskie, mikrobioloģiskie rādītāj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oleptiskie rādītāj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ontroles metod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pakojums, marķējums, uzglabāšana, apstrā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963C-CEB3-4037-80BA-FD7609CF6217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093B-8150-4451-9E1A-0EA99540853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3762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934560" y="1952640"/>
            <a:ext cx="356076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sūtītāj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dz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valitatīv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niversāl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ažād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Ērt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ēt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47960" y="1915920"/>
            <a:ext cx="38113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egādātāj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dz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āvīg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valitatīv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pecifisk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ienveidīg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devīg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ārg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Date Placeholder 4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CEDF-C8B6-4651-8240-A63D3DB65620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6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980F-F912-42D7-A263-C7F8A2E2089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966080" cy="950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971280" y="1304640"/>
            <a:ext cx="6724440" cy="51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bjektīva meto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ktu vērtē pielietojuma specifiskajas atbilstība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akstīta un izriet no specifikācij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s pielietošanas informē pretendentus ar novērtēšanas pamatojumu un nepieciešamību lai izslēgtu rezultātu pārsūdzēšanas iespēj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salīdzināma ar akreditētu testēšanu, izriet no pasūtītāja tehniskām spējām un pasūtītāja vajadzībā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5160" indent="-22608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(silta ēdiena ilgstoša uzglabāšana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(saldētu produktu atlaidināšana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67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7F89-3695-42C6-A5B0-8DB84562BF4A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6FC2-D7B2-4968-9646-2EB7D98DB6D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Marta Cekule</cp:lastModifiedBy>
  <dcterms:modified xsi:type="dcterms:W3CDTF">2014-03-14T14:17:08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